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3881-86EE-4B7D-81E9-DA8A1F65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D42-3F55-42D3-8C02-A6034E83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03B8-CF4E-4457-961A-E68156C7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9B45-A28E-4922-B100-75BB4B8B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21D1-8D88-435C-AE42-6FC32EB8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AE9-8B39-4523-9B02-70783877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72EE-ABCD-4828-8B8E-8B92CBEF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7D5A-906C-42F3-B6BC-A5EE55F2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6C11-7CA4-4DE3-A487-3F061F3D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0B29-0D06-4365-A63E-ABD68432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396-20BE-460E-A101-C679D708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EE14-26E5-44F6-9E38-823AB9FA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8CFD-B86B-4AA8-8CD1-83988B7A1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wmf"/><Relationship Id="rId7" Type="http://schemas.openxmlformats.org/officeDocument/2006/relationships/image" Target="../media/image11.jpeg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mative V. Summative Assess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Driving Exper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718632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rning To Dr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41036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1752480"/>
            <a:ext cx="509580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81080" y="1600200"/>
            <a:ext cx="5429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952720" y="1905120"/>
            <a:ext cx="32385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2273040" cy="2614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58000" y="2362320"/>
            <a:ext cx="1371600" cy="1298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crosswalks,pedestrians,road signs,signs,traffic signs,transportation"/>
          <p:cNvPicPr/>
          <p:nvPr/>
        </p:nvPicPr>
        <p:blipFill>
          <a:blip r:embed="rId4"/>
          <a:stretch/>
        </p:blipFill>
        <p:spPr>
          <a:xfrm>
            <a:off x="762120" y="42386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657600" y="2362320"/>
            <a:ext cx="2514600" cy="2200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705720" y="457200"/>
            <a:ext cx="1176120" cy="1177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EU,Europe,European,European Union,parking,road signs,signs,traffic signs,transportation"/>
          <p:cNvPicPr/>
          <p:nvPr/>
        </p:nvPicPr>
        <p:blipFill>
          <a:blip r:embed="rId7"/>
          <a:stretch/>
        </p:blipFill>
        <p:spPr>
          <a:xfrm>
            <a:off x="5257800" y="4800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276720" y="5257800"/>
            <a:ext cx="136656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4343400" y="304920"/>
            <a:ext cx="138600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124080" y="990720"/>
            <a:ext cx="31734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3702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7:20:33Z</dcterms:created>
  <dc:creator>ccps</dc:creator>
  <dc:description/>
  <dc:language>en-US</dc:language>
  <cp:lastModifiedBy>ccps</cp:lastModifiedBy>
  <dcterms:modified xsi:type="dcterms:W3CDTF">2010-10-19T17:49:16Z</dcterms:modified>
  <cp:revision>1</cp:revision>
  <dc:subject/>
  <dc:title>Formative V. Summative Assessment A Driving Experience</dc:title>
</cp:coreProperties>
</file>